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541811"/>
        <c:axId val="92749911"/>
      </c:barChart>
      <c:catAx>
        <c:axId val="854181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749911"/>
        <c:crosses val="autoZero"/>
        <c:auto val="1"/>
        <c:lblAlgn val="ctr"/>
        <c:lblOffset val="100"/>
        <c:noMultiLvlLbl val="0"/>
      </c:catAx>
      <c:valAx>
        <c:axId val="9274991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4181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1F6E1-FE3B-4B15-9E58-74563DCDA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B37F9-C1B2-472D-9F96-B7C01B8FC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0D3DD-7715-426B-A2A0-D17A368E2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54EB3-5E9F-49A0-BD98-753B73EB2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4404C-328B-4756-905D-586A58373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45AEC-730F-441E-8A4E-1C7ED2E6D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6F4CD-B131-4EF0-A904-47C3CC496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B1569-CB5E-40B6-9BFA-A47ED2E9C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4532B-65B6-4554-964F-C96C107DC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04E1B-0975-4F25-AFDA-C0FCD02E9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3E8D5-92D2-4FFF-9B4C-52F628340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A1A7C-A509-426C-B7AC-3C53E078D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904EC1-1B01-425D-84F2-C7158DC32DA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