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2583"/>
        <c:axId val="67352795"/>
      </c:barChart>
      <c:catAx>
        <c:axId val="3352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52795"/>
        <c:crosses val="autoZero"/>
        <c:auto val="1"/>
        <c:lblAlgn val="ctr"/>
        <c:lblOffset val="100"/>
        <c:noMultiLvlLbl val="0"/>
      </c:catAx>
      <c:valAx>
        <c:axId val="67352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2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414-7D2C-4F39-B365-C918D8E8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F6A-2A24-4A4B-A5DF-4FB04219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8DD-1172-43BC-86ED-81DF5BB6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DDB-931C-4249-BC98-D3B6150F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6D2-6255-4C68-B808-E376649B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D7B-2005-4641-B2CB-D5FFBD42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18F-33F0-4E4F-9AEE-24AA22F8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15C-9D4C-49A0-BE4F-E1283ADD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2B8-E4D3-4A07-9F26-A1307BF3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A3C-3B24-4176-A51A-924C4898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1A1-AB57-410A-9F23-F6F51861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5D43-153D-40C5-96E3-F595AB12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382BC-A77B-4AB9-A9E4-6D1F1688E2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