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817297"/>
        <c:axId val="89929019"/>
      </c:barChart>
      <c:catAx>
        <c:axId val="508172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29019"/>
        <c:crosses val="autoZero"/>
        <c:auto val="1"/>
        <c:lblAlgn val="ctr"/>
        <c:lblOffset val="100"/>
        <c:noMultiLvlLbl val="0"/>
      </c:catAx>
      <c:valAx>
        <c:axId val="899290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8172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168E-3F43-47E2-A3F4-A615DAD4D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981D-CBD0-49CF-A68C-D6E4EBE5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DBA3-5DD3-444D-A769-793E92C18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901A-7851-44FC-9F13-A548672A9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5485-599F-435F-8999-6E7C70FD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1866-170A-47EB-A26C-C90E81F3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589F-B039-425B-9B0C-5D5C5BF2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50F0-EDC1-4810-A589-0BB921A5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257A-FEA1-40C0-A84E-8B3FF1B2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1447-5F41-4EF6-92D6-32908D1E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2AB9-FF33-4115-846A-14AA5D19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2FE6-05C5-4D74-A4B5-CF2CFA53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5EFD3-6273-4710-BD71-FB4461EB20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