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09698"/>
        <c:axId val="24871369"/>
      </c:barChart>
      <c:catAx>
        <c:axId val="57809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71369"/>
        <c:crosses val="autoZero"/>
        <c:auto val="1"/>
        <c:lblAlgn val="ctr"/>
        <c:lblOffset val="100"/>
        <c:noMultiLvlLbl val="0"/>
      </c:catAx>
      <c:valAx>
        <c:axId val="24871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9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4C5-1CFE-4D55-895E-27AAC542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762-64CD-4C1F-B1FA-6DD9BF6D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421-E985-4B70-9F06-F1DC95A3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39D-509C-4F9E-B4D2-CC3BBCAA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020-B657-4EF4-BD96-90312702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5EC-E8F4-431B-A1B0-92585977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A3E-40ED-4DCC-8BC4-D24D115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DB1-BBFD-4DCB-A232-ED2769A9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1F9-4AB7-415A-BF6F-AD66A7F6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63E-901C-46E9-8D34-2EABFCF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D02-8A7A-4092-B968-CA06D447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D95-A5D1-4D70-8350-F91B801B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03072-9433-4B77-868B-5A154684D9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