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4792"/>
        <c:axId val="13249911"/>
      </c:barChart>
      <c:catAx>
        <c:axId val="6144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49911"/>
        <c:crosses val="autoZero"/>
        <c:auto val="1"/>
        <c:lblAlgn val="ctr"/>
        <c:lblOffset val="100"/>
        <c:noMultiLvlLbl val="0"/>
      </c:catAx>
      <c:valAx>
        <c:axId val="13249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4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57E-B969-4A47-B6BF-99533723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90F-848A-493D-80AD-3FCB45D9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707-8523-45EC-AA15-CBDCFD76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008-83EE-445E-BA88-F44DFAC0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B37-5ED8-4F85-8508-2A7599EC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E84-2468-463F-8112-14821315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7C4-9AD5-4707-B1FA-90319662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487-95CB-4BA6-BFC5-2707F7BC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459-4EF6-4F88-BCA5-DCD9FE8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C8-532E-4FEA-94A0-A021D065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CA2E-DBE2-4E72-BC33-5AF194D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869-1B64-4FE7-8CF6-24933C1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27F1A-BC10-426E-9BA3-7A4F91769A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