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78835"/>
        <c:axId val="21106953"/>
      </c:barChart>
      <c:catAx>
        <c:axId val="69678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06953"/>
        <c:crosses val="autoZero"/>
        <c:auto val="1"/>
        <c:lblAlgn val="ctr"/>
        <c:lblOffset val="100"/>
        <c:noMultiLvlLbl val="0"/>
      </c:catAx>
      <c:valAx>
        <c:axId val="21106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78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0AA-23E0-4A5B-A099-433BC06A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015-1F91-411B-BE88-513B4F1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38E-8E30-4A43-8EE3-F89D6E12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91F-5E3E-4685-85FC-0F28226C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1A8-F9F5-46B5-88D5-27F4C3F3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3D3-8379-41E8-89E3-EDA73A11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EFF-D970-44A4-BF5B-6A11C843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7D3-BF11-4516-B265-F93944B9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073-2913-4E01-81EF-46084558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9CB-FAB0-4D13-9D06-EA7B37A2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AB8-4B58-45BA-94CB-4C2D887A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E88-391A-4E67-AB47-CCD7A6F3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AC079-9C56-4910-9897-198883CFE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