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02218"/>
        <c:axId val="73655310"/>
      </c:barChart>
      <c:catAx>
        <c:axId val="48302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55310"/>
        <c:crosses val="autoZero"/>
        <c:auto val="1"/>
        <c:lblAlgn val="ctr"/>
        <c:lblOffset val="100"/>
        <c:noMultiLvlLbl val="0"/>
      </c:catAx>
      <c:valAx>
        <c:axId val="73655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02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4D7-E885-420F-BACA-6A96BFA7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292-7573-4DF3-BF79-9E8231F6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B4E-D0D6-4C94-85D9-FBD3CA44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9F8-5F19-42AF-B0B6-D32812F8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3FA-2CEC-40EC-9251-FA7467A7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D76-9FD9-4E26-92FD-39463CC9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529-AED8-4821-9F16-2DECA221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B17-3D48-424C-9FB7-B40E5421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E63-76CD-4605-9560-6F7EF5DC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A3C-4E63-48CF-93C1-5155545D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D0B-0185-4EEF-9F99-A31D5AC3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786-969C-4708-B566-72E4067A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A4050-6EB2-40B7-B142-8819BC6864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