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07483"/>
        <c:axId val="51466110"/>
      </c:barChart>
      <c:catAx>
        <c:axId val="94207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66110"/>
        <c:crosses val="autoZero"/>
        <c:auto val="1"/>
        <c:lblAlgn val="ctr"/>
        <c:lblOffset val="100"/>
        <c:noMultiLvlLbl val="0"/>
      </c:catAx>
      <c:valAx>
        <c:axId val="51466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07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E37-7427-4421-B485-C0D1D237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979-DA30-4359-84C4-4CE98E6A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A36-5CD3-4AAA-8F1C-F86156E6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28A-5154-4F67-B0EF-8815C25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7E1-E6CE-4BF6-AFB7-26F8B80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7B9-D4E8-45EE-90CC-4E59EA0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938-5341-4451-9C85-E40269C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2DF-919E-4749-9608-C3E89A9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02B-BE6B-462D-BE60-C9F47898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105-787D-4D1E-A503-C9F3048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477-4A4D-4615-A9FD-1A37132E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A52-BB99-494C-8A11-A304FD87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2A6A-E711-4752-8AA7-66E959857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