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0657"/>
        <c:axId val="84010711"/>
      </c:barChart>
      <c:catAx>
        <c:axId val="57460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0711"/>
        <c:crosses val="autoZero"/>
        <c:auto val="1"/>
        <c:lblAlgn val="ctr"/>
        <c:lblOffset val="100"/>
        <c:noMultiLvlLbl val="0"/>
      </c:catAx>
      <c:valAx>
        <c:axId val="84010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0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16F-546A-441B-B390-869BB3F1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964-CC75-44F9-96CB-D30EC3A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C33-1D63-413A-9339-9073FE90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A24-46D1-4443-8041-0A03C12B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FF2-30F9-4D31-A7B7-E15FBB7B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078-7A73-4E51-A2F8-F19042CA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34B-41D3-4F8D-9908-6867AB5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C33-F1E5-40C7-8CDC-5E07508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D12-45B5-4851-904F-0D607F8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4AB-0077-4DD8-8895-7AE42AF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E5C-9098-4D9A-B003-2371269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E64-48C4-42F6-8C77-90DA344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159AB-4404-403C-9F60-C855F688D1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