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91972"/>
        <c:axId val="46735470"/>
      </c:barChart>
      <c:catAx>
        <c:axId val="90191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35470"/>
        <c:crosses val="autoZero"/>
        <c:auto val="1"/>
        <c:lblAlgn val="ctr"/>
        <c:lblOffset val="100"/>
        <c:noMultiLvlLbl val="0"/>
      </c:catAx>
      <c:valAx>
        <c:axId val="46735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91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7E6-A125-4DFF-9120-C61AC837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E6D-8D6C-4906-AFDA-3ECAA599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964-AA66-494A-9A14-3182B1AE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51F-35D5-4AE7-BC6D-6B16FAEF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F6B-E079-4E85-8413-752EE837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16E-5A47-4103-8541-D3E24BCB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2B3-5328-475F-95EB-6A2DF322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D35-560C-4A86-8E08-D3E050EC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542-BFE9-4511-9171-953FD5FC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BD8-28B7-4FF1-818D-A9B8E4DF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1A8-D9DD-4975-A898-EA0374A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13F-D1F9-4DAA-8221-505EC03D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0C092-83D6-417A-9DA2-C8D0E8385D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