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967634"/>
        <c:axId val="2100438"/>
      </c:barChart>
      <c:catAx>
        <c:axId val="859676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00438"/>
        <c:crosses val="autoZero"/>
        <c:auto val="1"/>
        <c:lblAlgn val="ctr"/>
        <c:lblOffset val="100"/>
        <c:noMultiLvlLbl val="0"/>
      </c:catAx>
      <c:valAx>
        <c:axId val="21004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9676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5742-E1A3-44D2-B369-F9955D1B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0F91-3FC5-4A03-81AA-72798A5A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3459-6A71-4238-807E-ED7E88560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3553-23C4-4CDB-9489-6402F2DB7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4A15-9C20-4EA5-A8C7-FB14134C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D75B-91BE-42EA-86BE-4D08D436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7E85-6527-4510-A592-10EA6D2B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1513-74FB-4036-864E-1595B416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4D81-06A7-4A5B-B225-51E85FFA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C2A0-E2E3-4465-9C0D-6842D146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C37B-C3E7-4C79-AE55-8A83B8CB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8AF3-6C20-4928-A17A-707C80D7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1ADD7-501D-4BE4-BFA1-CB9D27C610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