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35838"/>
        <c:axId val="1745298"/>
      </c:barChart>
      <c:catAx>
        <c:axId val="85735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5298"/>
        <c:crosses val="autoZero"/>
        <c:auto val="1"/>
        <c:lblAlgn val="ctr"/>
        <c:lblOffset val="100"/>
        <c:noMultiLvlLbl val="0"/>
      </c:catAx>
      <c:valAx>
        <c:axId val="1745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35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56A-82E7-4A60-8016-BE85EC7E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779-0002-4DC4-ABEA-AA99D7C0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800-9EAD-4566-B188-1F8BD112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3AA-A189-43EF-9EAE-FB7D2E1B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B94-C6D5-483D-82F0-4EEC35E6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707-C9D0-40A5-A574-5B00D4D1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D71-8812-49D8-8C1B-01EB6CB1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FE7-8F91-41BF-BC83-A6480800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67F-C25D-4832-9BD7-9FA57201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E62-7142-4590-84D6-469F3391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49C-0446-4712-8FC5-2DECF344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472-941B-49DD-AFA7-42007F5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399CE-D4E2-4D7B-B98F-D45D3CCDFC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