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54872"/>
        <c:axId val="42205537"/>
      </c:barChart>
      <c:catAx>
        <c:axId val="37354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05537"/>
        <c:crosses val="autoZero"/>
        <c:auto val="1"/>
        <c:lblAlgn val="ctr"/>
        <c:lblOffset val="100"/>
        <c:noMultiLvlLbl val="0"/>
      </c:catAx>
      <c:valAx>
        <c:axId val="42205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54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EA1-898F-40F9-ACEA-C9BA6B4F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377-7942-4C7B-A603-CB78F4F4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AFB-3D23-4A9A-8318-23146F95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880-D215-4DF9-A244-E3F68978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B70-D2E2-4857-B3C6-24255610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43C-6E79-477E-B895-0CA7F92B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371-D555-4BB5-9226-C605319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36E-F8FA-4D69-B76D-F53C85E8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551-6744-4236-9F30-39B7E8E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477-B5DD-454F-B3A5-E62AE660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A4C-4668-4213-B542-4C5763E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111-7D7C-4C00-BC41-6C26E928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04F4D-0A00-4727-B9E9-369C541D03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