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06245"/>
        <c:axId val="75672201"/>
      </c:barChart>
      <c:catAx>
        <c:axId val="51806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2201"/>
        <c:crosses val="autoZero"/>
        <c:auto val="1"/>
        <c:lblAlgn val="ctr"/>
        <c:lblOffset val="100"/>
        <c:noMultiLvlLbl val="0"/>
      </c:catAx>
      <c:valAx>
        <c:axId val="75672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06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34B-B0F1-4A14-808B-AEEF19A7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CFA-71BA-4653-B3DA-CC70BB9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30D-9B95-4A14-AD9E-66B32BF7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6C8-2ABD-47EE-AA11-D1923D82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E82-FFA2-4925-9571-EC4D6BE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8B4-B6B3-45A0-8E91-516AF93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83D-77A8-40FA-BF67-F753A35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30F-B049-44EC-AB2E-D81A825D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961-04FF-4752-911A-9DFA148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030-D0EF-47F6-895A-6FCB143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E38-489E-4C3F-A67F-A4AE6568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F41-4C7D-407B-ACF2-6AFCAB2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659EC-194E-44E9-BA7D-71CFD82AD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