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33937"/>
        <c:axId val="74480258"/>
      </c:barChart>
      <c:catAx>
        <c:axId val="37833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80258"/>
        <c:crosses val="autoZero"/>
        <c:auto val="1"/>
        <c:lblAlgn val="ctr"/>
        <c:lblOffset val="100"/>
        <c:noMultiLvlLbl val="0"/>
      </c:catAx>
      <c:valAx>
        <c:axId val="74480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3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ECD-288A-47DD-9DFA-3FE7DF5A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E3B-A378-4D0D-BE40-DC1B1703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C9B-FA83-4971-B9D4-C38C6742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48F-F52C-43BD-8D7B-94D8BAD2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EDC-854B-4FC4-8A60-136981E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A4F-0011-4FFB-910F-B7C0FFA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8C8-5FC8-4395-B9D5-66AE6FA9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4D4-DCD5-4C1A-882F-270490A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628-EE4C-4A99-9CBB-56508EA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3FC-8809-46E3-BFE4-C0DEFFE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18C-D39C-4B08-AAA2-B6E893B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8B4-ED8E-40E7-B8F9-33CFF0E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7020-8F83-4EA8-924E-D5BB32AD6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