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29231"/>
        <c:axId val="82024185"/>
      </c:barChart>
      <c:catAx>
        <c:axId val="35129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24185"/>
        <c:crosses val="autoZero"/>
        <c:auto val="1"/>
        <c:lblAlgn val="ctr"/>
        <c:lblOffset val="100"/>
        <c:noMultiLvlLbl val="0"/>
      </c:catAx>
      <c:valAx>
        <c:axId val="82024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29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393-6749-4981-8106-FA839F74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523A-CFFF-4830-A60D-B0ECCC68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5B3-5AD9-4FB6-97EF-48497FAF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033F-33D7-448B-861F-5646A25F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2564-77E3-4112-BB07-7FE1ED77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7176-E179-40FB-8CA6-900921FA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91B7-7427-4B60-A575-6B515AAE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A6BE-0696-4D72-826A-9E70B1EE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03D1-FF65-4497-A723-8CF428F4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1D1-C783-4DC6-89F2-35324F66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8A6-F2BF-4257-AFDE-0036112A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249-D06F-4195-936C-BF569903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89C87-D4A9-4F70-9B59-7A623A104D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