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15025"/>
        <c:axId val="42095924"/>
      </c:barChart>
      <c:catAx>
        <c:axId val="96015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95924"/>
        <c:crosses val="autoZero"/>
        <c:auto val="1"/>
        <c:lblAlgn val="ctr"/>
        <c:lblOffset val="100"/>
        <c:noMultiLvlLbl val="0"/>
      </c:catAx>
      <c:valAx>
        <c:axId val="42095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15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193-A17A-405C-8E12-F4EB50C0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F54-44EC-440D-B9DA-9C23B467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749-B620-4527-8DA9-F16300FB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E26-B2FB-4276-9E1B-105C7066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5F9-C874-43C4-85E8-03301C69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483-8E3E-48FF-87BA-5A6BA83D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054-36A1-4E5F-943F-3D21EF5A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305-66D8-496F-8A9C-3B6A3A03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559-ACCF-4D07-A664-1F1420C9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915-9154-4D6C-98B7-FAAE45B0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B92-0C2C-4067-8AB0-FC61AB5D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2E6-0A85-4134-80B4-3D446FD1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D1119-AC05-4F12-9E84-0347D1B6C7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