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338842"/>
        <c:axId val="52788180"/>
      </c:barChart>
      <c:catAx>
        <c:axId val="443388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88180"/>
        <c:crosses val="autoZero"/>
        <c:auto val="1"/>
        <c:lblAlgn val="ctr"/>
        <c:lblOffset val="100"/>
        <c:noMultiLvlLbl val="0"/>
      </c:catAx>
      <c:valAx>
        <c:axId val="527881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388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4453-00D4-4F80-9C14-75E15088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B274-D33E-43FA-9D6E-000E2D2D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CD9-4E73-4D18-BDE9-E290744D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088E-D09C-45A9-B0E9-EF2FF2DA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6472-38D6-4282-8F3C-2477B5D8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2160-1AEB-45D6-9289-561FC86A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26EF-CEDE-4FE5-B2AF-20685B06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C9ED-298F-45D6-991C-AC57A884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B39-C7E2-40BD-AB96-78925D7E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8B6B-AC9E-423A-83F3-FD0AC3CE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C8F-B33C-40B0-BDD9-61C1C1AC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5BE-4309-4A00-8D24-62D9433F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2A2E1-B2FC-4F86-B23A-AC85B24CB4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